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0435-266D-4008-83AC-2D59EFE47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7C26-BD2F-4B2E-B357-29803D9BA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16B5-6E8D-4D46-A22E-4ACE6AAA7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2262-66B2-42A5-A1AA-DAD7E1B3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514F-2956-4BA4-B567-B22812946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289A-07A8-4486-8B3C-E4602A15F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8226-EC42-4686-A827-0596527C6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04FF-4061-4C56-B996-67F8E52B1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                                                                     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C96EAF3-6741-4D8C-8F2D-96067D7D8F06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72720" y="6244920"/>
            <a:ext cx="771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907D5D0-E94B-437B-95F8-ABADAF14FD8E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41893F4-CDE1-4F3A-BCB5-FA365A1495C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EDE9AF7-C42B-4227-8DA3-B52493C85BC7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10154C-4E1C-4343-8041-866EAB52890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E5198C-0B9E-4DAE-8A8F-69618E29CE3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9A6F55F-1F09-4CF4-9025-F52442C53746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BD7949-95CF-42FD-8BF5-425730233EF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46160" y="5762160"/>
            <a:ext cx="876600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Finding and Organizing Information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ploring your Digital Sp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85600" y="1450440"/>
            <a:ext cx="782316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ndows OS is like Mission Control center of your compu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s software, folders, and fi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Saving and Storing your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 information you may want to s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gital Dat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is stored in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can create &amp; save text, pictures, video &amp; sound fi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ore (Save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your files in a variety of pla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59C79E9-D76F-47DE-A1AC-2D293A080251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igital Storage Spac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12520" y="1600200"/>
            <a:ext cx="802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drive: most common storage devic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/DVD drive: built into most PCs. CD-RW (ReWritable) only let you save data on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peripheral connected to your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flash drive or memory card: common storage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ools: Small enough to carry with you -- cameras, cell phones, handh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61CE26F-715B-486D-9F47-9723E68B578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igital Storage Spac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48920" y="1509480"/>
            <a:ext cx="84186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local networks (Leaddo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N (Local Area Network):  need an account. Networks usually require usernames &amp; passwo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ve in assigned folders (Your Name on Leaddo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ystem Administrators:  manage the L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24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Inter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essible from any connected P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ving online” or “uploading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vantages:  no need to carry around peripher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24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ogle, Yahoo, Apple, Microsoft are online examples of storage sp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3"/>
          <p:cNvSpPr/>
          <p:nvPr/>
        </p:nvSpPr>
        <p:spPr>
          <a:xfrm>
            <a:off x="973080" y="6372360"/>
            <a:ext cx="7713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1F60474-DA52-49E8-AD3D-EF3D16B068DD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s, Folders, Labels, and Tag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lders: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re files are sto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ubfolder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smaller folders inside of the main folder. Think Organization!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75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abels or Tag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akes it easy to find a file using search too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dows Photo Galler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an organize pictures on P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ics can have more than one tag/lab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75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ic of sea turtle may have the tags: Ocean, Reptile, Animal (think categorie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001C55E-1877-4E59-A376-E7E3C23B3D3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 Labels or Tag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834AF92-2A39-4AB5-9164-A39768A49FF1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1"/>
          <a:stretch/>
        </p:blipFill>
        <p:spPr>
          <a:xfrm>
            <a:off x="2125800" y="1609560"/>
            <a:ext cx="5378400" cy="4975560"/>
          </a:xfrm>
          <a:prstGeom prst="rect">
            <a:avLst/>
          </a:prstGeom>
          <a:ln w="0">
            <a:noFill/>
          </a:ln>
        </p:spPr>
      </p:pic>
      <p:sp>
        <p:nvSpPr>
          <p:cNvPr id="394" name="TextBox 1"/>
          <p:cNvSpPr/>
          <p:nvPr/>
        </p:nvSpPr>
        <p:spPr>
          <a:xfrm>
            <a:off x="465120" y="1755720"/>
            <a:ext cx="15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/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5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F8C9920-D2BA-4165-8181-AAE7E29A906D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1"/>
          <a:stretch/>
        </p:blipFill>
        <p:spPr>
          <a:xfrm>
            <a:off x="1809720" y="1600200"/>
            <a:ext cx="605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6:45Z</dcterms:created>
  <dc:creator>Jean Bissell</dc:creator>
  <dc:description>Copyright 2006 South-Western/Thomson</dc:description>
  <dc:language>en-US</dc:language>
  <cp:lastModifiedBy>Lenessa Keehn</cp:lastModifiedBy>
  <dcterms:modified xsi:type="dcterms:W3CDTF">2011-03-22T13:50:08Z</dcterms:modified>
  <cp:revision>55</cp:revision>
  <dc:subject/>
  <dc:title>Slide 1</dc:title>
</cp:coreProperties>
</file>